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ECF0-F0C3-4AC1-B729-C6EF458E9C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760C-538C-46B2-8A44-C3ADEF01D6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3128-5DF2-4CFA-A3D9-6C4953158A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8351-C9B5-4F96-874A-5EF4D1F43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F740-77DA-4C87-BD50-982E585F92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D1C2-61AE-47A4-B687-BEF1A29805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9F1D-2D5B-495E-91F0-5F5D5E3700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79F6-7309-42AA-9AB4-28CD036A69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FAD9-1EA3-4BD6-ADBA-EC117E419F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DFC9-CB25-403A-81BF-8DF013CB87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66E7-4BB4-44FD-9BA1-BD4445B7E6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7ACF-1EC5-4A28-9E33-C6CBF03507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558F-579C-4BB5-B160-47AB37027D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6C35-10CE-45AF-86F5-FF2FC57FC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97A5-0333-4F88-8371-71B1810110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3492-E88B-4FCD-8B00-3FD47168C7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D13D-1F6A-46F4-BE85-548E7C857F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523D-7352-4D4A-8D27-0B22185B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64A-FD30-4E08-A77F-8E84EB0F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D18-6747-43DD-9DCC-C9C7CE4C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BF5-E8B0-4232-81A7-0D78CB6E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ABD-2113-44F1-AB27-E8CA3BC5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4D69-3CD4-4128-9E47-21CA6020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008-96CF-41A3-B634-874EB00B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E80-0483-4A6E-966F-2FBC3196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127A-B988-4111-A09B-1E98FD78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CAE-8283-4948-B3DB-C15F3549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A99-2EB1-4F83-BCDF-2C173B6B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FDA-0636-4905-BB82-552A8D8E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535C-3684-4B2C-93C6-8C04215B4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00040" y="1143000"/>
            <a:ext cx="7858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 parejas, traduce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. Me gustan las matemáticas porque son   interesantes y el profesor es divert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 interesa el francés porque es útil para mi futu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reo que la historia es interesa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 parece que la biología es bastante aburr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gri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azul clar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2309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azul oscur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826920" y="620640"/>
            <a:ext cx="13669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995640" y="4653000"/>
            <a:ext cx="136692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859280" y="620640"/>
            <a:ext cx="136692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979640" y="4653000"/>
            <a:ext cx="136692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7020000" y="2637000"/>
            <a:ext cx="1366920" cy="9349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826920" y="2565360"/>
            <a:ext cx="13669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6084720" y="4653000"/>
            <a:ext cx="1366920" cy="93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843280" y="620640"/>
            <a:ext cx="1366920" cy="935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4716360" y="2708280"/>
            <a:ext cx="1366920" cy="93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771640" y="2637000"/>
            <a:ext cx="136692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7020000" y="620640"/>
            <a:ext cx="1366920" cy="93528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971640" y="170028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843280" y="177336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2050920" y="566100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3995640" y="5661000"/>
            <a:ext cx="1584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940360" y="5661000"/>
            <a:ext cx="1511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7020000" y="1773360"/>
            <a:ext cx="1512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2360" y="177336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826920" y="3645000"/>
            <a:ext cx="16574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2771640" y="3716280"/>
            <a:ext cx="1440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4572000" y="3716280"/>
            <a:ext cx="15112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164360" y="3645000"/>
            <a:ext cx="1224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95280" y="260280"/>
            <a:ext cx="8353440" cy="5710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or = colou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labra =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66ff33"/>
                </a:solidFill>
                <a:latin typeface="Arial"/>
              </a:rPr>
              <a:t>azu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lanc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ra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s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660033"/>
                </a:solidFill>
                <a:latin typeface="Arial"/>
              </a:rPr>
              <a:t>marr</a:t>
            </a:r>
            <a:r>
              <a:rPr b="0" lang="en-GB" sz="2800" spc="-1" strike="noStrike">
                <a:solidFill>
                  <a:srgbClr val="660033"/>
                </a:solidFill>
                <a:latin typeface="Arial"/>
                <a:ea typeface="Arial"/>
              </a:rPr>
              <a:t>ó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33cc"/>
                </a:solidFill>
                <a:latin typeface="Arial"/>
              </a:rPr>
              <a:t>gr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476360" y="1341360"/>
            <a:ext cx="13669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012000" y="3429000"/>
            <a:ext cx="136656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588000" y="765000"/>
            <a:ext cx="136692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124000" y="4724280"/>
            <a:ext cx="136692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284720" y="2276640"/>
            <a:ext cx="1366920" cy="9349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11280" y="2997360"/>
            <a:ext cx="13669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877080" y="5157720"/>
            <a:ext cx="1366920" cy="935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4356000" y="404640"/>
            <a:ext cx="1366920" cy="935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4284720" y="5373720"/>
            <a:ext cx="1366920" cy="93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708360" y="3645000"/>
            <a:ext cx="136692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877080" y="2060640"/>
            <a:ext cx="1366920" cy="93492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900000" y="907920"/>
            <a:ext cx="6912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have the hai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go el p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has the 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ene el p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have the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go los o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has the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ene los o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0920" y="1557360"/>
            <a:ext cx="8497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revise colou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revise describing hair and ey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say what your teachers are lik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negr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0ce2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e9fa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484360" y="1341360"/>
            <a:ext cx="4535640" cy="2879640"/>
          </a:xfrm>
          <a:prstGeom prst="rect">
            <a:avLst/>
          </a:prstGeom>
          <a:solidFill>
            <a:srgbClr val="cc32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68360" y="4941720"/>
            <a:ext cx="5183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70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9:36:10Z</dcterms:created>
  <dc:creator>Chris Fuller</dc:creator>
  <dc:description/>
  <dc:language>en-US</dc:language>
  <cp:lastModifiedBy>Chris</cp:lastModifiedBy>
  <dcterms:modified xsi:type="dcterms:W3CDTF">2009-03-30T08:36:28Z</dcterms:modified>
  <cp:revision>6</cp:revision>
  <dc:subject/>
  <dc:title>Slide 1</dc:title>
</cp:coreProperties>
</file>